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AE74-E426-4873-B051-1B354C9F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AA6-32F9-44D0-9E6E-C9B56FD5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42E-F7CD-487F-963F-B3E9D849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312-930E-4DD3-8E19-A0CF099C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B8E-2422-4C04-9F58-8344D76C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7DD-94DB-4C5C-8235-54BA08BC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868C-3C94-499F-93DC-F7AAC4E2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7E2-02EE-4922-8391-CC7C5F68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3B9-3EE7-49F0-9040-98C1950A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89A-E396-48B2-A332-082E13E2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BABA-017D-45F5-8D19-87479AB7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251-98E0-46A0-A808-2F2EE4FA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6C65-A842-4A13-A754-BC74F9A8F7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4005360"/>
            <a:ext cx="4211640" cy="28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Ruqah2 Normal"/>
              </a:rPr>
              <a:t>قرعت باب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32000" y="0"/>
            <a:ext cx="586764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قرعت بابك بفرح فتحت لي, طلبت السّعادة بوفرة منحتني, قدّمت لك ذاتي بحنوّ قبلتني,  لا مثل لك يا الهي (</a:t>
            </a: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2</a:t>
            </a: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ما أعظم انحناءك عليّ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ما أعظم نزولك الى أعماقي, ما أعظم صوتك يشفي جراحي, لا مثل لك يا الهي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565164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لم يعرفني أحد مثلما عرفتني, لم يغمرني أحد مثلما غمرتني, لم يغفر لي أحد مثلما غفرت لي, لا مثل لك يا الهي (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ا أعظم انحناءك عليّ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ا أعظم نزولك الى أعماقي, ما أعظم صوتك يشفي جراحي, لا مثل لك يا اله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24360" y="0"/>
            <a:ext cx="521964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في بعدي عنك غرقت في خطيئتي, اسرعت اليّ تابعت خطواتي, أعطيتني حبّك أنعشت حياتي, لا مثل لك يا الهي (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ا أعظم انحناءك عليّ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ا أعظم نزولك الى أعماقي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ا أعظم صوتك يشفي جراحي, لا مثل لك يا الهي (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8:41:36Z</dcterms:created>
  <dc:creator>Charbel Azar</dc:creator>
  <dc:description/>
  <dc:language>en-US</dc:language>
  <cp:lastModifiedBy>Personal</cp:lastModifiedBy>
  <dcterms:modified xsi:type="dcterms:W3CDTF">2008-04-21T22:26:04Z</dcterms:modified>
  <cp:revision>15</cp:revision>
  <dc:subject/>
  <dc:title>Slide 1</dc:title>
</cp:coreProperties>
</file>